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1212-B2D6-4032-B3E4-791C7D2C5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088A-4355-4894-A0DD-E2AB77972C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9991-F9A7-438C-BD1A-9F16ECDC35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197D-7414-4B2C-BC86-9286C5B7E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03C-50C6-4499-8BA8-6110C77D2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CCB3-6BB9-4B98-977B-263601622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0C7-E716-4E5C-B9F9-550268E8A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283E-05DE-4F68-9F0A-7E3A655DA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D93-99A4-4045-BDB9-5064FC8E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0E3-FA66-49B4-8506-A3A7E017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DFC-CC76-4F82-AABE-4EF4E81F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CA6-E3FC-4298-9AB7-C7563F7A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3BFD-D5BF-40DF-8BFF-0B0B4E5A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FDF-F1D6-4933-BB92-58B65DE7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0DE2-99E9-4B05-871E-682C138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383-CF26-435A-9304-772A733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C12F-F0C8-4FC0-B9EB-EC1A3F9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4DAB-1F1E-4EA3-8316-01E0BB9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AE0F-A11C-4C16-BF5F-251A348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003-D1B0-4AE7-98CE-F0CCDE3A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9C78-2B19-415F-A25F-B3B61048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CD6D-7C5F-4F82-92FF-15E70BE9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DB07-6439-4E5F-9201-F7F2B7E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061-6803-441F-AA92-4B641144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01EA-F4FB-4278-865E-C5CDDCAC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376-F633-453E-9B84-64D39C64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8707-6515-4DB6-9E04-0EB60499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2C6-2521-40EE-BD5D-2CB68B69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857-F2B4-4751-A1E3-6D4D1ED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A53-1D8F-43DE-B593-50E743B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CB2-9F0C-4619-90E5-B6C6966B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D9B-F173-4181-8C8C-AFBAEF4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79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53A9-F2D0-43FA-86FF-7DAD0551B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579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D3E-414B-44D0-928A-408B862DC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quivalent F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nd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valent fractions are fractions that name the same am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Object 7"/>
          <p:cNvGraphicFramePr/>
          <p:nvPr/>
        </p:nvGraphicFramePr>
        <p:xfrm>
          <a:off x="1523880" y="2362320"/>
          <a:ext cx="56880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6880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Line 9"/>
          <p:cNvSpPr/>
          <p:nvPr/>
        </p:nvSpPr>
        <p:spPr>
          <a:xfrm>
            <a:off x="1981080" y="586728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5486400" y="5867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209680" y="4876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2209680" y="585144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09880" y="52419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1320" y="4952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791320" y="57754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ing Equivalent F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1295280"/>
            <a:ext cx="7467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numerator and denominator by the sam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e numerator and denominator by the same number (it has to be a common factor to work with divi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914400" y="53341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90720" y="4343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990720" y="52578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724280" y="3505320"/>
            <a:ext cx="4419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hoose any number to multiply by.  Let’s multiply by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057400" y="44038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524196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505320" y="4861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4495680" y="533412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648320" y="44197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419720" y="524196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943600" y="4724280"/>
            <a:ext cx="28954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3/5 is equivalent to 6/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8580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larger numbers, you can make equivalent fractions using division.  Divide by a common f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25750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8080" y="158436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38080" y="249876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486400" y="1600200"/>
            <a:ext cx="31240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example, we can divide both numbers by 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057400" y="16002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057400" y="24382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505320" y="19652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267080" y="2438280"/>
            <a:ext cx="9144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4343400" y="1523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343400" y="2422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486400" y="3429000"/>
            <a:ext cx="3048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/35 is equivalent to 4/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ions in Simplest For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533520" y="1447920"/>
            <a:ext cx="807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ctions are in simplest form when the numerator and denominator do not have any common factors besides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3520" y="25909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fractions that are in simplest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99072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89548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5257800" y="41911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90720" y="326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90720" y="40989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89548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666880" y="409896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2578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257800" y="40226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Fractions in Simplest Form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greatest common factor (GCF) of the numerator and denomin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both numbers by the GC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838080" y="2225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12952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5800" y="21337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52280" y="3276720"/>
            <a:ext cx="1143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52280" y="4305240"/>
            <a:ext cx="11430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x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x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x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362320" y="3276720"/>
            <a:ext cx="1143000" cy="100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362320" y="4305240"/>
            <a:ext cx="114300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x 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x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x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962520" y="320040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:  1, 2, 4, 5, 10, 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962520" y="381492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:  1, 2, 4, 7, 14, 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62520" y="4424400"/>
            <a:ext cx="31240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Factors: 1, 2,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3962520" y="5033880"/>
            <a:ext cx="2666880" cy="3682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CF: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4038480" y="5715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divide by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676520" y="13716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1676520" y="211788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÷</a:t>
            </a:r>
            <a:r>
              <a:rPr b="0" lang="en-US" sz="6000" spc="-1" strike="noStrike">
                <a:solidFill>
                  <a:srgbClr val="ffffff"/>
                </a:solidFill>
                <a:latin typeface="MS Shell Dlg"/>
              </a:rPr>
              <a:t> 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2895480" y="16606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4038480" y="213372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4267080" y="12193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4267080" y="196524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 flipH="1">
            <a:off x="563832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7086600" y="1720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3:19:44Z</dcterms:created>
  <dc:creator>Josh Hammond</dc:creator>
  <dc:description/>
  <dc:language>en-US</dc:language>
  <cp:lastModifiedBy>Home</cp:lastModifiedBy>
  <dcterms:modified xsi:type="dcterms:W3CDTF">2010-11-14T16:31:58Z</dcterms:modified>
  <cp:revision>11</cp:revision>
  <dc:subject/>
  <dc:title>Equivalent Fractions</dc:title>
</cp:coreProperties>
</file>